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348-EB88-41BF-9CD6-933065F7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AAC-9651-4C27-96F9-6920114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33C-F17E-4F1D-B75F-908211F0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2BC-9275-4C0A-8C64-3966788F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1A1B-7757-4623-9EB3-88F237D7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BF7A-A838-4149-8A1A-C781691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A35D-916C-47A8-B047-9281BE7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7FC-21F9-4E75-9C4D-3935F8B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C6BF-C482-4D4A-8D32-BC01DAB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A47-1D06-479C-A9B7-92E5323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CBBB-FB80-4A0E-9A9A-DCD3B961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E38-F16D-44AB-8369-34D99C1C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4AD6-9756-4BE3-ACCE-C2CE82F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931F-AA78-4180-B9A1-D2196BD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1352-059A-4546-BB3A-2541887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54E1-DE27-4F2E-B606-AFE5F0DA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6BF9-BA9E-4E27-8317-2EAF1A98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CB9-F358-4EBC-8BFD-529F381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FB1-0353-4F17-B3CD-0DCCB42B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B1D-A478-432C-8778-3F7D9C6C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772-4150-4776-8384-726584C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A5C-7B7A-4D2F-A1F0-715FC4E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E24-9043-4F45-A5A8-B45A9D9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C9B-2B0D-43D8-9F28-A114458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72F-1CEB-4DC8-A4A0-469E65564144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80FA-BCC7-4832-9837-5AD029AA73D5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670360"/>
          </a:xfrm>
          <a:prstGeom prst="rect">
            <a:avLst/>
          </a:prstGeom>
          <a:ln w="0">
            <a:noFill/>
          </a:ln>
        </p:spPr>
      </p:pic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20840" y="1133640"/>
            <a:ext cx="8600760" cy="2054160"/>
          </a:xfrm>
          <a:prstGeom prst="rect">
            <a:avLst/>
          </a:prstGeom>
          <a:ln w="0">
            <a:noFill/>
          </a:ln>
        </p:spPr>
      </p:pic>
      <p:sp>
        <p:nvSpPr>
          <p:cNvPr id="84" name="Subtitle 2"/>
          <p:cNvSpPr/>
          <p:nvPr/>
        </p:nvSpPr>
        <p:spPr>
          <a:xfrm>
            <a:off x="142884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Book Antiqua"/>
              </a:rPr>
              <a:t>Written by JJ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040" y="52430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When he lost his job, Daddy bought a new car. He wanted to look cool in front of everyone. Mummy didn’t like it thoug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300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42960" y="285840"/>
            <a:ext cx="740088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became sad because she couldn’t buy new thin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361476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ddy tried to make money on the Stock Market, but it didn’t work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76400" y="571680"/>
            <a:ext cx="50245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35712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lost more money. He couldn’t sleep next to Mum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1210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Once upon a time, Daddy was rich and successful. He had many friends and a big hou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286000" y="243000"/>
            <a:ext cx="4500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Now he’s just an old ma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7680" y="1428840"/>
            <a:ext cx="34290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57120" y="54579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Every day, Mummy would go shopping to buy fancy and expensive th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86000" y="571680"/>
            <a:ext cx="4357800" cy="47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35676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liked how Daddy was an officer, and would make him dinner while he sat around in his dirty cloth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14760" y="1857240"/>
            <a:ext cx="3429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214960"/>
            <a:ext cx="82296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couldn’t play with them, so I would watch them while calling out every brand from Chanel to Louis Vuitt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43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wasn’t cool that my Daddy was a Navy officer. He would try to impress everyone with his uniform, but he couldn’t play golf like the other me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500200" y="2259000"/>
            <a:ext cx="40719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55004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wasn’t a real sailing officer, he was an engine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112840" y="500040"/>
            <a:ext cx="5031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4292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ddy left the Navy because Mummy wanted more fancy things. He sat in the bath-tub and played with toy boa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3080" y="1874880"/>
            <a:ext cx="4786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12136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tried to play with Daddy and his Navy sword, but he just played with Mummy, who was happ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43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00040" y="35712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was always happy after buying new thin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507204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2:31:48Z</dcterms:created>
  <dc:creator>jason</dc:creator>
  <dc:description/>
  <dc:language>en-US</dc:language>
  <cp:lastModifiedBy>user</cp:lastModifiedBy>
  <dcterms:modified xsi:type="dcterms:W3CDTF">2010-06-13T12:05:30Z</dcterms:modified>
  <cp:revision>15</cp:revision>
  <dc:subject/>
  <dc:title>Slide 1</dc:title>
</cp:coreProperties>
</file>